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3C73A-3B49-44AC-9D15-E7168C1CA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8673E-ADE8-42EA-AB84-5152170B6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2C90C-7AC0-47EC-9F32-094477EEE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49476-EDD4-42BA-A341-3917A4DD9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81031-4DD2-4690-B491-61E83C8AB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E7224-C302-4A7D-B4A4-6D39D8D5C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91D2C-6191-4905-B43B-86E897B31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4991A-4539-4314-A1CE-F85FE166A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F67EA-C501-446F-AE97-97FC7EEEA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35A84-FA2B-48E3-B108-D8FA17893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3F650-964D-4540-8611-08A351A7A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3BF95-B0E8-4639-BBD2-7C5E99EE35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308A-B925-4044-B2B7-12B8385210A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230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00"/>
                </a:solidFill>
                <a:latin typeface="Arial"/>
              </a:rPr>
              <a:t>أهمية توظيف مهارات التواصل اللاعنفي في حل النزاعات والخلافات المدرسي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971640" y="2492280"/>
            <a:ext cx="7345440" cy="3600720"/>
          </a:xfrm>
          <a:prstGeom prst="rect">
            <a:avLst/>
          </a:prstGeom>
          <a:noFill/>
          <a:ln w="0">
            <a:noFill/>
          </a:ln>
        </p:spPr>
        <p:txBody>
          <a:bodyPr lIns="90000" rIns="90000" tIns="46800" bIns="46800" anchor="t">
            <a:noAutofit/>
          </a:bodyPr>
          <a:p>
            <a:pPr marL="609480" indent="-609480" algn="r" rtl="1">
              <a:spcBef>
                <a:spcPts val="7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توفير مناخ إيجابي في المدرسة </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تنشيط الحوار والنقاش والتشاور داخل المدرس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3</a:t>
            </a:r>
            <a:r>
              <a:rPr b="1" lang="en-US" sz="3200" spc="-1" strike="noStrike">
                <a:solidFill>
                  <a:srgbClr val="000099"/>
                </a:solidFill>
                <a:latin typeface="Arial"/>
              </a:rPr>
              <a:t>.  تنمية أواصر المحبة والاحترام في المدرسة</a:t>
            </a:r>
            <a:r>
              <a:rPr b="1" lang="en-US" sz="3200" spc="-1" strike="noStrike">
                <a:solidFill>
                  <a:srgbClr val="0000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8</a:t>
            </a:r>
            <a:r>
              <a:rPr b="0" lang="en-US" sz="3200" spc="-1" strike="noStrike">
                <a:solidFill>
                  <a:srgbClr val="000099"/>
                </a:solidFill>
                <a:latin typeface="Arial"/>
              </a:rPr>
              <a:t>. تفهم المشاعر والحاجات والمطالب والرغبات للأفراد يشكل قاعدة محورية للتواصل اللاعنفي وهذا يتطلب امتلاك مهارات محددة تمكن من تعرفها لتحقيق التواصل العميق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9</a:t>
            </a:r>
            <a:r>
              <a:rPr b="0" lang="en-US" sz="3200" spc="-1" strike="noStrike">
                <a:solidFill>
                  <a:srgbClr val="ff0000"/>
                </a:solidFill>
                <a:latin typeface="Arial"/>
              </a:rPr>
              <a:t>. يحقق التواصل اللاعنفي قدراً كبيراً من الفهم والتفاهم بين الأفراد خاصة حين يختفي التضارب بين حاجاتنا ومشاعرنا وحاجات الآخرين ومشاعرهم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10</a:t>
            </a:r>
            <a:r>
              <a:rPr b="0" lang="en-US" sz="3200" spc="-1" strike="noStrike">
                <a:solidFill>
                  <a:srgbClr val="003300"/>
                </a:solidFill>
                <a:latin typeface="Arial"/>
              </a:rPr>
              <a:t>. يستند هذا المنحى إلى أكبر قدر ممكن من المسؤولية والذي يمكننا من السيطرة على تصرفاتنا نحو الآخرين وكذلك السيطرة على استجاباتنا لمشاعر وتصرفات الآخر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1</a:t>
            </a:r>
            <a:r>
              <a:rPr b="0" lang="en-US" sz="3200" spc="-1" strike="noStrike">
                <a:solidFill>
                  <a:srgbClr val="ff0000"/>
                </a:solidFill>
                <a:latin typeface="Arial"/>
              </a:rPr>
              <a:t>. يقوم منحى التواصل اللاعنفي على مبدأ الإيمان بحرية الأفراد في اختيار تصرفاتهم ، ولكنهم لا يملكون حرية تحديد نتائج هذه التصرفات ( المسؤولية الشخصية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2</a:t>
            </a:r>
            <a:r>
              <a:rPr b="0" lang="en-US" sz="3200" spc="-1" strike="noStrike">
                <a:solidFill>
                  <a:srgbClr val="000066"/>
                </a:solidFill>
                <a:latin typeface="Arial"/>
              </a:rPr>
              <a:t>. يتجنب منحى التواصل اللاعنفي اللجوء إلى انتقاد الآخرين أو توجيه اللوم وإصدار الأحكام التي تؤدي إلى الشعور بالإحباط والخيبة والإهانة والإحساس بالذن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99"/>
                </a:solidFill>
                <a:latin typeface="Arial"/>
              </a:rPr>
              <a:t>مراحل منحى التواصل اللاعنفي</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مرحلة الملاحظة .</a:t>
            </a:r>
            <a:endParaRPr b="0" lang="en-US" sz="3200" spc="-1" strike="noStrike">
              <a:solidFill>
                <a:srgbClr val="000000"/>
              </a:solidFill>
              <a:latin typeface="Arial"/>
            </a:endParaRPr>
          </a:p>
          <a:p>
            <a:pPr marL="591120" indent="-591120" algn="r" rtl="1">
              <a:spcBef>
                <a:spcPts val="799"/>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رحلة المشاعر .</a:t>
            </a:r>
            <a:endParaRPr b="0" lang="en-US" sz="3200" spc="-1" strike="noStrike">
              <a:solidFill>
                <a:srgbClr val="000000"/>
              </a:solidFill>
              <a:latin typeface="Arial"/>
            </a:endParaRPr>
          </a:p>
          <a:p>
            <a:pPr marL="591120" indent="-591120" algn="r" rtl="1">
              <a:spcBef>
                <a:spcPts val="799"/>
              </a:spcBef>
              <a:buClr>
                <a:srgbClr val="66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مرحلة الحاجات في ارتباطها بالمشاعر .</a:t>
            </a:r>
            <a:endParaRPr b="0" lang="en-US" sz="3200" spc="-1" strike="noStrike">
              <a:solidFill>
                <a:srgbClr val="000000"/>
              </a:solidFill>
              <a:latin typeface="Arial"/>
            </a:endParaRPr>
          </a:p>
          <a:p>
            <a:pPr marL="591120" indent="-591120" algn="r" rtl="1">
              <a:spcBef>
                <a:spcPts val="799"/>
              </a:spcBef>
              <a:buClr>
                <a:srgbClr val="00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cc00"/>
                </a:solidFill>
                <a:latin typeface="Arial"/>
              </a:rPr>
              <a:t>مرحلة المطالب في ارتباطها مع الحاجات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ff0000"/>
                </a:solidFill>
                <a:latin typeface="Arial"/>
              </a:rPr>
              <a:t>ألاحظ        </a:t>
            </a:r>
            <a:r>
              <a:rPr b="1" lang="en-US" sz="3200" spc="-1" strike="noStrike">
                <a:solidFill>
                  <a:srgbClr val="000000"/>
                </a:solidFill>
                <a:latin typeface="Arial"/>
              </a:rPr>
              <a:t>   </a:t>
            </a:r>
            <a:r>
              <a:rPr b="1" lang="hi-IN" sz="3200" spc="-1" strike="noStrike">
                <a:solidFill>
                  <a:srgbClr val="003300"/>
                </a:solidFill>
                <a:latin typeface="Arial"/>
              </a:rPr>
              <a:t>أشعر</a:t>
            </a:r>
            <a:r>
              <a:rPr b="1" lang="en-US" sz="3200" spc="-1" strike="noStrike">
                <a:solidFill>
                  <a:srgbClr val="000000"/>
                </a:solidFill>
                <a:latin typeface="Arial"/>
              </a:rPr>
              <a:t>         </a:t>
            </a:r>
            <a:r>
              <a:rPr b="1" lang="hi-IN" sz="3200" spc="-1" strike="noStrike">
                <a:solidFill>
                  <a:srgbClr val="660033"/>
                </a:solidFill>
                <a:latin typeface="Arial"/>
              </a:rPr>
              <a:t>أحتاج</a:t>
            </a:r>
            <a:r>
              <a:rPr b="1" lang="en-US" sz="3200" spc="-1" strike="noStrike">
                <a:solidFill>
                  <a:srgbClr val="000000"/>
                </a:solidFill>
                <a:latin typeface="Arial"/>
              </a:rPr>
              <a:t>            </a:t>
            </a:r>
            <a:r>
              <a:rPr b="1" lang="hi-IN" sz="3200" spc="-1" strike="noStrike">
                <a:solidFill>
                  <a:srgbClr val="00cc00"/>
                </a:solidFill>
                <a:latin typeface="Arial"/>
              </a:rPr>
              <a:t>أطلب</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flipH="1">
            <a:off x="644364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flipH="1">
            <a:off x="471636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H="1">
            <a:off x="2700360" y="4869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hi-IN" sz="4000" spc="-1" strike="noStrike">
                <a:solidFill>
                  <a:srgbClr val="cc0000"/>
                </a:solidFill>
                <a:latin typeface="Arial"/>
              </a:rPr>
              <a:t>الأهداف</a:t>
            </a:r>
            <a:r>
              <a:rPr b="1" lang="en-US" sz="4000" spc="-1" strike="noStrike">
                <a:solidFill>
                  <a:srgbClr val="000000"/>
                </a:solidFill>
                <a:latin typeface="Arial"/>
              </a:rPr>
              <a:t> </a:t>
            </a:r>
            <a:br>
              <a:rPr sz="4000"/>
            </a:br>
            <a:r>
              <a:rPr b="1" lang="hi-IN" sz="4000" spc="-1" strike="noStrike">
                <a:solidFill>
                  <a:srgbClr val="003300"/>
                </a:solidFill>
                <a:latin typeface="Arial"/>
              </a:rPr>
              <a:t>يتوقع من المشاركين أن يصبحوا أكثر وقدرة على:</a:t>
            </a:r>
            <a:br>
              <a:rPr sz="4000"/>
            </a:br>
            <a:br>
              <a:rPr sz="4000"/>
            </a:b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250920" y="2276280"/>
            <a:ext cx="8642160" cy="439236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Arial"/>
              </a:rPr>
              <a:t>تفهم مكانة منحى التواصل اللاعنفي كنموذج وأداة في حل الخلافات والنزاعات المدرسية وتحسين نوعية المناخ المدرسي.</a:t>
            </a:r>
            <a:r>
              <a:rPr b="1" lang="en-US" sz="2800" spc="-1" strike="noStrike">
                <a:solidFill>
                  <a:srgbClr val="000000"/>
                </a:solidFill>
                <a:latin typeface="Arial"/>
              </a:rPr>
              <a:t> </a:t>
            </a:r>
            <a:endParaRPr b="0" lang="en-US" sz="2800" spc="-1" strike="noStrike">
              <a:solidFill>
                <a:srgbClr val="000000"/>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تعرف مفهوم منحى التواصل اللاعنفي ومراحله ومهاراته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0033"/>
                </a:solidFill>
                <a:latin typeface="Arial"/>
              </a:rPr>
              <a:t>امتلاك مهارات التواصل اللاعنفي وخاصة المهارات التي تتعلق بالملاحظة ووصف المشاعر وتحديد الحاجات والمطالب للآخرين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توظيف منحى التواصل اللاعنفي في البيئة المدرسية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hi-IN" sz="4000" spc="-1" strike="noStrike">
                <a:solidFill>
                  <a:srgbClr val="cc0000"/>
                </a:solidFill>
                <a:latin typeface="Arial"/>
              </a:rPr>
              <a:t>منحى التواصل اللاعنفي وتوظيفه في حل النزاعات المدرسية :</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ن أسباب النزاعات والخلافات بين الأفراد بعامة وداخل المدرسة بخاصة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330200" indent="-443160" algn="r" rtl="1">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قصور عملية التواصل وضعف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2</a:t>
            </a:r>
            <a:r>
              <a:rPr b="1" lang="en-US" sz="2800" spc="-1" strike="noStrike">
                <a:solidFill>
                  <a:srgbClr val="003300"/>
                </a:solidFill>
                <a:latin typeface="Arial"/>
              </a:rPr>
              <a:t>.  غياب عملية التواصل أو عدم فاعليت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3</a:t>
            </a:r>
            <a:r>
              <a:rPr b="1" lang="en-US" sz="2800" spc="-1" strike="noStrike">
                <a:solidFill>
                  <a:srgbClr val="cc0000"/>
                </a:solidFill>
                <a:latin typeface="Arial"/>
              </a:rPr>
              <a:t>.  ضعف القدرة على تحليل الموقف وتوقع نتائجه .</a:t>
            </a: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Arial"/>
              </a:rPr>
              <a:t>معنى العنف</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7000"/>
          </a:bodyPr>
          <a:p>
            <a:pPr marL="263880" indent="-263880" algn="r"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عنف في اللغة يعني : الشدة والقسوة واللوم والتعيير .</a:t>
            </a:r>
            <a:endParaRPr b="0" lang="en-US" sz="3200" spc="-1" strike="noStrike">
              <a:solidFill>
                <a:srgbClr val="000000"/>
              </a:solidFill>
              <a:latin typeface="Arial"/>
            </a:endParaRPr>
          </a:p>
          <a:p>
            <a:pPr marL="263880" indent="-263880" algn="r" rtl="1">
              <a:spcBef>
                <a:spcPts val="3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 المعجم الوسيط )</a:t>
            </a:r>
            <a:endParaRPr b="0" lang="en-US" sz="14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نف في المعنى الاصطلاحي يعني : استخدام الشدة</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جسدية أو اللفظية أو الحركية في التعامل مع الآخرين أو </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مواقف . </a:t>
            </a:r>
            <a:r>
              <a:rPr b="1" lang="en-US" sz="1400" spc="-1" strike="noStrike">
                <a:solidFill>
                  <a:srgbClr val="cc0000"/>
                </a:solidFill>
                <a:latin typeface="Arial"/>
              </a:rPr>
              <a:t>( إبراهيم وشاح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rPr>
              <a:t>معنى التواصل</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fontScale="82000"/>
          </a:bodyPr>
          <a:p>
            <a:pPr marL="281160" indent="-28116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التواصل : هو أداة تحقيق الفهم والتفاهم بين الأفراد وهو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وسيلة لتحقيق التفاعل والتعاطف مع الآخرين والتعبير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عن الآراء والأفكار والمشاعر وغيرها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كما يمثل التواصل الوسيط الحيوي في عمليات الحوار والنقاش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التفاوض والتوسط من أجل حل الخلافات والنزاع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936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3300"/>
                </a:solidFill>
                <a:latin typeface="Arial"/>
              </a:rPr>
              <a:t>مفهوم التواصل اللاعنفي</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هو زيادة القدرة على التعاطف مع الآخرين من خلال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الاستماع إليهم على مستوى المشاعر بتركيز ووعي تام لما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يقولونه بما يؤدي إلى الشعور بالدفء العاطفي والمحبة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والثقة والأمان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9360">
            <a:solidFill>
              <a:srgbClr val="00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مباديء الأساسية لمنحى التواصل اللاعنفي</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fontScale="92000"/>
          </a:bodyPr>
          <a:p>
            <a:pPr marL="560520" indent="-560520" algn="r" rtl="1">
              <a:spcBef>
                <a:spcPts val="7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99"/>
                </a:solidFill>
                <a:latin typeface="Arial"/>
              </a:rPr>
              <a:t>تحقيق تواصل عميق مع الذات الإنسانية للآخرين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يكون من خلال التفهم العميق لنفسيتهم وحاجاتهم وعواطفهم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مطالبهم ورغباتهم .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2</a:t>
            </a:r>
            <a:r>
              <a:rPr b="0" lang="en-US" sz="3200" spc="-1" strike="noStrike">
                <a:solidFill>
                  <a:srgbClr val="000099"/>
                </a:solidFill>
                <a:latin typeface="Arial"/>
              </a:rPr>
              <a:t>. يجب تفهم ظروف الآخرين وخصائصهم النفسية</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الاجتماعية والعمرية ومراكزهم الوظيفية وأطرهم المعرفية والفكرية حين يتم التفكير في اختيار وسائط الاتصال معهم.</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3</a:t>
            </a:r>
            <a:r>
              <a:rPr b="0" lang="en-US" sz="3200" spc="-1" strike="noStrike">
                <a:solidFill>
                  <a:srgbClr val="000099"/>
                </a:solidFill>
                <a:latin typeface="Arial"/>
              </a:rPr>
              <a:t>. </a:t>
            </a:r>
            <a:r>
              <a:rPr b="0" lang="hi-IN" sz="3200" spc="-1" strike="noStrike">
                <a:solidFill>
                  <a:srgbClr val="ff0000"/>
                </a:solidFill>
                <a:latin typeface="Arial"/>
              </a:rPr>
              <a:t>الحرص على سيطرة العقل والتفكير على اللغة المستخدمة في عملية التواص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33000"/>
            <a:ext cx="8229600" cy="5792760"/>
          </a:xfrm>
          <a:prstGeom prst="rect">
            <a:avLst/>
          </a:prstGeom>
          <a:noFill/>
          <a:ln w="9360">
            <a:solidFill>
              <a:srgbClr val="0066ff"/>
            </a:solidFill>
            <a:miter/>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4</a:t>
            </a:r>
            <a:r>
              <a:rPr b="0" lang="ar-SA" sz="3200" spc="-1" strike="noStrike">
                <a:solidFill>
                  <a:srgbClr val="ff0000"/>
                </a:solidFill>
                <a:latin typeface="Arial"/>
              </a:rPr>
              <a:t>.</a:t>
            </a:r>
            <a:r>
              <a:rPr b="0" lang="ar-SA" sz="3200" spc="-1" strike="noStrike">
                <a:solidFill>
                  <a:srgbClr val="000000"/>
                </a:solidFill>
                <a:latin typeface="Arial"/>
              </a:rPr>
              <a:t> </a:t>
            </a:r>
            <a:r>
              <a:rPr b="0" lang="ar-SA" sz="3200" spc="-1" strike="noStrike">
                <a:solidFill>
                  <a:srgbClr val="ff0000"/>
                </a:solidFill>
                <a:latin typeface="Arial"/>
              </a:rPr>
              <a:t>الربط الوثيق بين المشاعر والحاجات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5</a:t>
            </a:r>
            <a:r>
              <a:rPr b="0" lang="ar-SA" sz="3200" spc="-1" strike="noStrike">
                <a:solidFill>
                  <a:srgbClr val="00cc00"/>
                </a:solidFill>
                <a:latin typeface="Arial"/>
              </a:rPr>
              <a:t>. الحاجات الإنسانية على الرغم من تنوعها واختلافها تعتبر حاجات عامة ومشتركة نظراً للتشابه بين خصائص بني البشر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6</a:t>
            </a:r>
            <a:r>
              <a:rPr b="0" lang="ar-SA" sz="3200" spc="-1" strike="noStrike">
                <a:solidFill>
                  <a:srgbClr val="000066"/>
                </a:solidFill>
                <a:latin typeface="Arial"/>
              </a:rPr>
              <a:t>.</a:t>
            </a:r>
            <a:r>
              <a:rPr b="0" lang="ar-SA" sz="3200" spc="-1" strike="noStrike">
                <a:solidFill>
                  <a:srgbClr val="000099"/>
                </a:solidFill>
                <a:latin typeface="Arial"/>
              </a:rPr>
              <a:t> التواصل الفعال يحتاج إلى بيئة تواصلية ملائمة بحيث يتم اختيار الزمان والمكان الملائمين للتواصل المريح والهاديء وتوفير البيئة النفسية المريحة وتفهم أسباب التوتر والضغط النفسي والمشكلات التي يواجهها الآخرون والتعاطف معهم وتوفير أجواء السعادة والبهجة والسرور لهم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333360"/>
            <a:ext cx="8218440" cy="194328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7</a:t>
            </a:r>
            <a:r>
              <a:rPr b="1" lang="en-US" sz="2800" spc="-1" strike="noStrike">
                <a:solidFill>
                  <a:srgbClr val="800000"/>
                </a:solidFill>
                <a:latin typeface="Arial"/>
              </a:rPr>
              <a:t>. توظيف اللغة الغنية بالمعاني الإنسانية التي تمكن من تحقيق تواصل عاطفي عميق دون ترك انعكاسات عاطفية سلبية عند الطرف الذي نتواصل معه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hi-IN" sz="2800" spc="-1" strike="noStrike">
                <a:solidFill>
                  <a:srgbClr val="ff0000"/>
                </a:solidFill>
                <a:latin typeface="Arial"/>
              </a:rPr>
              <a:t>مثال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7" name=""/>
          <p:cNvGraphicFramePr/>
          <p:nvPr/>
        </p:nvGraphicFramePr>
        <p:xfrm>
          <a:off x="468360" y="2492280"/>
          <a:ext cx="8218440" cy="3816000"/>
        </p:xfrm>
        <a:graphic>
          <a:graphicData uri="http://schemas.openxmlformats.org/drawingml/2006/table">
            <a:tbl>
              <a:tblPr/>
              <a:tblGrid>
                <a:gridCol w="3598920"/>
                <a:gridCol w="2305080"/>
                <a:gridCol w="2314440"/>
              </a:tblGrid>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دقي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صاد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كاذب</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غير آم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قل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جبا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حياد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عادل</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متحيز</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يمكنك أن تحقق نجاحاً أفضل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غير ناجح</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فاش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8T15:44:38Z</dcterms:created>
  <dc:creator>WISHAH</dc:creator>
  <dc:description/>
  <dc:language>en-US</dc:language>
  <cp:lastModifiedBy>MOHAMMED</cp:lastModifiedBy>
  <dcterms:modified xsi:type="dcterms:W3CDTF">2008-11-07T17:58:49Z</dcterms:modified>
  <cp:revision>7</cp:revision>
  <dc:subject/>
  <dc:title>أهمية توظيف مهارات التواصل اللاعنفي في حل النزاعات والخلافات المدرسية . </dc:title>
</cp:coreProperties>
</file>